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06F-BB21-4531-A360-98A7A237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14B-2D94-4490-B42F-C82A7B4C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79F-1D1B-41BE-9F18-1763761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610-C6E0-4575-A2B3-05B58648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CA1-8A54-4543-8005-4CDBF24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038-7D03-47E0-AAA1-9458667E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D33-3781-4A3B-8D54-866406E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63B-8BD8-4888-8B1D-10B50FCF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490-8749-46E4-86ED-727CC56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996-41F5-4E7F-9602-11C632A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981-7199-470C-817D-058AE2E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A75-1AD3-4359-A281-C970BCC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9256-E6CE-4324-ABB9-D2DFDCF383C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19000"/>
          <a:ext cx="1752840" cy="76212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署毒管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消防署應變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09480" y="2857680"/>
          <a:ext cx="1676520" cy="9144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北、中、南區稽查大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93640" y="4991040"/>
          <a:ext cx="1524240" cy="68580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縣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市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局、消防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638680" y="819000"/>
          <a:ext cx="1904760" cy="838080"/>
        </p:xfrm>
        <a:graphic>
          <a:graphicData uri="http://schemas.openxmlformats.org/drawingml/2006/table">
            <a:tbl>
              <a:tblPr/>
              <a:tblGrid>
                <a:gridCol w="190476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防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483080" y="2349360"/>
          <a:ext cx="3581280" cy="7239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陸軍總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733920" y="3695760"/>
          <a:ext cx="2438280" cy="6858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戰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5981760"/>
          <a:ext cx="2438280" cy="62856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作戰分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934320" y="3695760"/>
          <a:ext cx="1752480" cy="7999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快速研判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819520" y="1143000"/>
            <a:ext cx="281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61960" y="1143000"/>
            <a:ext cx="2971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752480"/>
            <a:ext cx="1440" cy="111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47920" y="156168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3815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77208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628668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200560"/>
            <a:ext cx="1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952880" y="438156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24400" y="5413320"/>
            <a:ext cx="21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59520" y="307656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70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15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37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研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6040" y="44578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187680" y="4076640"/>
            <a:ext cx="7016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51080" y="2946240"/>
            <a:ext cx="7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73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9320" y="1066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82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4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毒化災害國軍處理作業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46748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5410080"/>
            <a:ext cx="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0" y="6019920"/>
          <a:ext cx="1752480" cy="5328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偵消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133720" y="5334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334120"/>
            <a:ext cx="0" cy="9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032360"/>
            <a:ext cx="0" cy="145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038480"/>
            <a:ext cx="6793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4320" y="45784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4032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9588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51440" y="309240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3154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2840" y="5194440"/>
            <a:ext cx="14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22840" y="437472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920" y="441972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229280"/>
            <a:ext cx="701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4480" y="4191120"/>
            <a:ext cx="7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67480" y="3099960"/>
            <a:ext cx="1800" cy="56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240" y="3176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94640" y="3095280"/>
            <a:ext cx="144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88080" y="321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90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77240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47920" y="4489560"/>
            <a:ext cx="45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6324480"/>
            <a:ext cx="6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51:39Z</dcterms:created>
  <dc:creator>戰情官</dc:creator>
  <dc:description/>
  <dc:language>en-US</dc:language>
  <cp:lastModifiedBy>chem3-7</cp:lastModifiedBy>
  <dcterms:modified xsi:type="dcterms:W3CDTF">2001-10-06T07:33:25Z</dcterms:modified>
  <cp:revision>7</cp:revision>
  <dc:subject/>
  <dc:title>PowerPoint 簡報</dc:title>
</cp:coreProperties>
</file>